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4E5-8626-4608-9FCC-B51B35B7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469-6870-466B-8C2C-8CD35D9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487-7CD2-4354-9B4F-556B8B89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869-4A6E-4B6C-A5C2-8EC74430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F692-A159-4984-9B7D-B64EA0D6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06D-1104-471A-B41C-7A5762A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B3F-D96F-452A-B060-D478C2D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A47-0F4B-4B6B-82A0-266FCCDE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E44-90F1-4095-85AB-43E446F9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E3F7-B4D6-4326-B2E9-57CC52F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8DC1-7C1D-4509-92C0-EB6D725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A20-3B8A-4014-94EA-0F61CDC3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DC2-693E-46DB-9C97-8015FD1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9EDF-6534-44FE-9893-629FFE3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477-8424-4832-94A0-CCD7C8E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930-867B-4528-AE77-A9306411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1BAD-DF2A-4C7A-B7BE-6E8D2AF6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D021-F543-4D02-8E8B-F9D0A19B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56ED-5205-47AA-A9AF-002DD1E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22FF-A9D0-4078-AC82-3409082B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F858-D02B-4E65-AA11-8D005899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680B-67E2-468E-AA92-1C505C6D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60A-9F39-4347-B348-885EBEFE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C18F-A715-4FC6-A4CE-0F7E93EF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5BF7-2E4C-47BE-AE85-BEDBFC2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4AA1-2206-4298-96B7-1A34A42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4D56-6C4B-4457-827C-6E16EC9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0879-CFD1-4B02-B598-09176ED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4629-FA6B-4C24-97CF-61BDB154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ED8C-2E8C-48BD-98B2-B9F2638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35BA-DBA5-48E9-AC17-26A68C7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5DCA-3124-49BB-9FED-CBA26AE5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91540-AE2E-4958-8ECE-46D3A5D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239-D283-4645-8E72-1F7C295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F9E3-2426-45CF-9216-63D73AC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4B14-5001-4B09-B2E7-C4B0498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F46E-00B5-4031-A0EA-D8B1A41C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9195-D3ED-4C1F-8857-14E1902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09B9-EC25-4080-BB49-2E3A42A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AE48-AB57-4DEE-A8CC-702C86A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189C-87E3-4DCF-902C-5C64CAD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B86A-E671-498E-A1EE-6B0F55A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E038-B416-4E66-A021-FDE47A6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01B2-7D4B-4991-99C7-D911F2F5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92C-F4F1-4FE0-A211-DA505DC3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D2A7-03EC-456E-9804-AB8F174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5694-8878-4CDB-9B46-CE2A4BF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8301-AD31-412F-99E6-62013BC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B013-27FE-4700-B31F-120D8F3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680D-C049-4FC0-A57A-9B623B1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B164-D4E5-4791-ADC3-A54ABDE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EC07-EBC3-49B5-BB64-CC030CA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F78D-0F63-492D-8BB2-FFCED8F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D411-3B86-4AB4-A088-BFC311C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DD3C-E8FF-440D-BB62-DE413444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3A5-67AD-4831-B4AF-084F101C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5C14-2E1B-45A6-9591-8FD95B96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D1A2-24EA-417E-93D4-28F7781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5CFE0-2EA4-493F-9B1A-D066551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0C51-9C4F-4FF0-B5DB-F1D827E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6F7E-7D1C-4718-8A3A-6CAB4BA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C0C4-AEB0-4229-BC98-26DE56B1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7350-E47C-40E9-902D-C3FB23E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C611-1FA9-4E01-BFFA-71C70D31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1EAC-A920-4087-97A7-2A7C8B3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1029-9B15-419B-8691-43A02BD1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264-44D5-4932-B3BB-5EB0B8A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5BFB-250C-46D1-9B55-939744F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C1D0-1501-4252-B935-FC6DC85B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FDFA-4BED-48A3-ADB2-826759E6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5C5C-7211-4242-82D8-91655CF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028B-9E45-425C-A864-1EF5B50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87D9F-0BF6-4D5C-84B0-81EDF49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52AB-388A-46AC-93F8-C9726AE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97F9-9506-4475-9334-8AD3FBA7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2FC4-BE36-4C8A-A50C-E5FB3281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2594-9F98-4885-AF52-2F37AD8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5EE-E875-4D25-9E93-A3DA865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847C-77E1-4E48-812B-21508200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BE18-5489-433C-A5D5-1A42F5C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D09C-1F71-4CF1-AFA3-07C633F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ABBE-DB60-462D-BEA5-161E5ED3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509B-D116-406E-98F6-E450B9C7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420-ED5E-4AEB-B557-DCCC8BC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522F-0EE8-455E-95CF-051149375F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F1FA-A1DD-40E5-95A2-D903716ECE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4473-0011-4418-A48F-C9C14FD1B4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2A0-04DC-40A6-915D-C36CB1E393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E00-C017-44E4-BBDC-17EEB2C49A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A16-349A-4AD9-B463-E678062209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0BA-2287-4B1B-AE57-65D1A332A8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214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Corbel"/>
              </a:rPr>
              <a:t>История брачных отношений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2714760" y="0"/>
            <a:ext cx="505764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000080" y="2786040"/>
            <a:ext cx="3286080" cy="388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3"/>
          <a:stretch/>
        </p:blipFill>
        <p:spPr>
          <a:xfrm>
            <a:off x="4638600" y="142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1000080" y="0"/>
            <a:ext cx="4500720" cy="3498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3"/>
          <a:stretch/>
        </p:blipFill>
        <p:spPr>
          <a:xfrm>
            <a:off x="4714920" y="353700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4500720" cy="2876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1214280" y="1214280"/>
            <a:ext cx="29289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1000080" y="0"/>
            <a:ext cx="6275520" cy="3357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4384800" y="3500280"/>
            <a:ext cx="4759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5038920" cy="2643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3"/>
          <a:stretch/>
        </p:blipFill>
        <p:spPr>
          <a:xfrm>
            <a:off x="3546360" y="3500280"/>
            <a:ext cx="514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1928880" y="1285920"/>
            <a:ext cx="6095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071800" y="285840"/>
            <a:ext cx="5286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714680" y="1214280"/>
            <a:ext cx="57862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9:46:38Z</dcterms:created>
  <dc:creator>Евгений</dc:creator>
  <dc:description/>
  <dc:language>en-US</dc:language>
  <cp:lastModifiedBy>Vlad</cp:lastModifiedBy>
  <dcterms:modified xsi:type="dcterms:W3CDTF">2012-04-15T11:19:34Z</dcterms:modified>
  <cp:revision>6</cp:revision>
  <dc:subject/>
  <dc:title>История брачных отношений.</dc:title>
</cp:coreProperties>
</file>